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9B9A-A1F5-4F87-92F0-0B43EFD2FA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C84-DC62-4B2C-8322-8E7D02D9F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9E50-EF0E-4B31-B6FC-4932A93B8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5C3-C17B-48DE-90B9-73D80BC86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63E0-59E3-42BB-BD9F-B86F6144FB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4CE8-1A56-477A-A732-FAFB33F01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7DC-40A2-4CA7-A5E3-6343EA920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D81-B55E-471A-924D-5AF6818AE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0870-2B69-4A4A-8864-5ADE6568C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5E30-F9CE-43B6-8E6D-45A44F31F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A4F2-B77E-4FD8-BD34-92DBB5E18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F38-A2FA-4343-8F48-0302278C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66C-C16D-4699-9348-F8FCD0D7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E70-D53D-4E93-9EF2-D65C125A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F63-9D50-4C97-BAB5-902EDAE0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94D-5C9B-4184-B87D-826A9125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213-120F-495A-B812-68A7CC34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CC2-DEAC-4C4C-92D1-A92B74FE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870-3733-4E9F-9114-52F08108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EC7-8ADB-4113-B1AD-EAB78E83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9E7-8B9A-45DD-96EA-47A70DD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476-4275-4809-9DB7-5032DE0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E03-36C6-4255-999B-95FFAD4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B6BB-7285-4EFA-8502-5E19DE1F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50920" y="155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how to say who owns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practise expressing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speed-date to revise describing your family and p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55640" y="2276640"/>
            <a:ext cx="7920000" cy="1630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Tienes animales a ca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engo…  no teng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5280" y="26028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ssess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how who owns something, a possessive adjective is used in front of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a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efan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 /your (polite)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r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rtu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tort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ej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ur rab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ur (pl)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bal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4360" y="162864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ice how, in the example of nosotros, which is also the case for vosotros, there can be a masculine and feminin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ust agree with the gender of what is poss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scul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minin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st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55640" y="148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more than one of the object, add an s to the possessive 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mis per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 rat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/hers / theirs / your (polite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B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with ratones above, some nouns add an –es to become plural. These are marked with a * on your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1773360"/>
            <a:ext cx="8209080" cy="2552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CIALLY remember, there’s no apostrophe in Span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ay Jamie’s pig, say el cerdo DE Ja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79280" y="189000"/>
            <a:ext cx="412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189000"/>
            <a:ext cx="4103640" cy="594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elep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cow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olite, plural) 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d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sheep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s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pl)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ha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(sing) 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716360" y="260280"/>
            <a:ext cx="4176720" cy="5844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 p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g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os elef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cabal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us va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m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le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is rat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o p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uestra serp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 ov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s carac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Vuestras pe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há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 le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55640" y="2276640"/>
            <a:ext cx="7920000" cy="2239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Tienes hermanos o herman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Te llevas bien con el / con ella / con ellos / con e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55640" y="2276640"/>
            <a:ext cx="7920000" cy="2239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uedes describir tu madre o tu pad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… / tie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2276640"/>
            <a:ext cx="7920000" cy="1630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er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1:10Z</dcterms:created>
  <dc:creator>Owner1</dc:creator>
  <dc:description/>
  <dc:language>en-US</dc:language>
  <cp:lastModifiedBy>Chris</cp:lastModifiedBy>
  <dcterms:modified xsi:type="dcterms:W3CDTF">2009-01-15T11:17:06Z</dcterms:modified>
  <cp:revision>15</cp:revision>
  <dc:subject/>
  <dc:title>Slide 1</dc:title>
</cp:coreProperties>
</file>